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5B3-0731-4F63-B4AD-6795181B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E81-DC55-4A04-8F7E-1572D18D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CE4-EB5B-4318-B112-8C7F3B51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47D-4AE9-404A-AF8F-9EAE35F9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3BC3-A5FD-4AA1-87E1-0A6389B4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619-93D7-43B9-AFBD-8DCA465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4A8A-1599-4A0B-836E-BE8B7C88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F59-1AAB-4809-B268-BFDEA35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E22D-88A3-4637-9F95-935212B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416F-69F0-4BDA-A54A-50CC176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DF80-DE2B-44DF-BB25-02B62DC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243-D95F-4ECC-A875-373143A7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00C7-8264-47EC-B1E6-2BAAC29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70B0-96FE-482E-8F84-50F53B1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1B63-2D75-47E9-8E16-729A6AE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3F58-E760-48A5-860E-8EB967BD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235C-87DB-4FEC-A7FA-A79204EE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D93-598C-47D8-8E40-723B21B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A3F-8F85-4CA5-956C-6C38B79B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EE7-6854-42A2-AB3D-0CB753E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ED0-076D-4346-9B3D-36C256F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00F-2DE3-4B80-B0DF-02E6073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903-78B1-4C87-B717-D9CD258F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FB2-EB0F-4967-9E12-25CC829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B78-2801-4C90-AD4C-95146CA39AB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9D1-44CB-4D97-BC75-FBE74D11128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620640"/>
            <a:ext cx="9144000" cy="86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d8ff"/>
                </a:solidFill>
                <a:latin typeface="Verdana"/>
              </a:rPr>
              <a:t>КОЧЕТОВ Эрнест Георгиевич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уманитарная наука в поисках мировых новаций: космологизац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 новый этап мирового разви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уманитарный прорыв в глобальной методологии миропонимания («фазовые переходы» и их методологическое и теоретическое осмыслени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ступление на круглом столе «Влияние мирового финансового кризиса на инновационные процессы в зарубежных странах и России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ГУ им. М.В. Ломоносова, 18 апреля  2013 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200"/>
          </a:xfrm>
          <a:prstGeom prst="rect">
            <a:avLst/>
          </a:prstGeom>
          <a:noFill/>
          <a:ln w="0">
            <a:noFill/>
          </a:ln>
        </p:spPr>
        <p:txBody>
          <a:bodyPr tIns="33480" bIns="33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7750440" y="602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2560" y="142560"/>
            <a:ext cx="90010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показано на блок-схеме, мир развивается поэтапно. Каждая этап (фаза), выполнив свою миссию, как эстафету передает процесс развития следующему этапу, проходя при этом через «фазовые переходы». Фаза (этап) выступает в двух ипостасях, т.е.  обладает дуальностью (двойственностью)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как процесс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как наука, освещающая этот процесс и обеспечивающая его понимание (постижение, осознания, теоретическое и методологическое отображение и т.д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2560" y="142560"/>
            <a:ext cx="90010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Здесь последовательно и вместе работают: 1) фундаментальная онтологическая связка-триада «геоэкономика → глобализация → космологизация»; 2) фундаментальная гносеологическая связка-триада: «геоэкономический подход → глобалистика → гуманитарная космология». Связи вне и внутри триад придают им кластерный характер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Фазы (этапы) и фазовые переходы освящаются методологическим аппаратом – геогенезисом (объемно-пространственным методом восприятия мира) и геологистикой. Оформление этих процессов идет через диалог и  диалогистику (коммуникативный способ осознания и постижения мира) -  они дают ключ к миропониманию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2560" y="142560"/>
            <a:ext cx="90010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рыв научного знания в гуманитарную космологию, освещающую зарождение переход от глобализации в новую фазу мирового развития – космологизацию, опирается на мощный методологический инструментарий: геогенезис, диалогистику, геологистику мировых процессов. Дадим определения этим базовым категориям (понятиям), раскрывающим смысл мировых трансформаций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еогенезис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eogenesis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 – пространственно-философская методология осознания (постижения), восприятия и отображения мира, методологическая основа глобалистики; синтез подпространственных форм, выделенных по функциональному признаку, в единое целостное пространство; новая методологическая призма, через которую рассматривается процесс глобализации. Геогенезис выступает как новая методологическая основа, новейшая «оптика» понимания современной архитектоники ми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смологизаци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Cosmologization) – 1) процесс, отражающий новейшую фазу магистрального пути мирового развития как синтез человека, общепланетарных  и космических процессов (союз «Человека, Земли и Неба»);  2) выход на мировую арену «новых  людей», обладающих космологическим сознанием, творцов Мироздания, их органичное  слияние с ним;  3) процесс создания и предъявление миру нового чертежа (эскиза)  антропокосмоса и высокая гуманитарная технология возведения  на его основе нового Мироздания – Мироздания нового Ренессанса; 4) Выход Человека  на новые масштабы и горизонты макро - и микромира как залог его качественно нового быт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0"/>
            <a:ext cx="840096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Гуманитарная космология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umanitarian Cosmology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) — отрасль гуманитарного знания, наука о: 1)  ценности человека и жизни, новых ее общественных формах организации; 2) нераздельном парадигмальном миропонимании внутреннего и внешнего мира человека и способах его отображения; 3) выходе на такие уровни (горизонты) миросозерцания, на которых стирается грань между естественным и гуманитарным знанием; 4) выходе гуманитарных геопространств (геоэкономики, геостратегии, геокультуры, геоинформатики и др.) за глобальные рамки и технологии оперирования как их синтезе в этом новом (космологическом) пространственном измерении; 5) осознании вопросов тысячелетнего ранга и поиске ответов на них; 6) фундаментальных основах доктрины человека как гуманитарного манифеста; дороге к новому Мирозданию Новых людей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Диалогистика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(Dialogistics)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 —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новая отрасль гуманитарного знания, наука о базовых теоретических и методологических основах взаимного и согласованного миропонимания в условиях глобальных трансформаций; о поиске проблемных вопросов высокого ранга и провозглашении новых повесток дня; о выходе на новые уровни  межцивилизационного диалога как фундаментального начала гармонизации нашего мира; о высоких гуманитарных технологиях снятия напряженности и придания глобальной цивилизационной устойчивости; о теоретических основах мониторинга цивилизационной устойчивости и новым принципам принятия решений по глобальным проблемам современности; о поиске новых мотиваций, стимулов и смыслов бытия, новых моделей и горизонтов ренессансных преобразований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еологистика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ologistics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 – логистика в ее глобальном измерении, при котором частные логистические системы в глобальных координатах соотносятся как геоэкономическая, геофинансовая, геополитическая, военно-стратегическая, геоинформационная логистики, а также мировая природоохранная и мировая культурологическая логистические системы; восприятие глобального мира как логистической системы, в основе которой функциональное (не механическое) переплетение всех вышеотмеченных частных сфер в единую логистическую композицию, предопределяющую единство содержания (логику мирового развития, его центральную парадигму – геоэкономику) и формы (институциональное оформление глобального мира). Восприятие глобального мира как логистической системы (геологистики) выводит нас на построение объемной синкретической модели – геоэкономического атласа мир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лее сконцентрируем внимание на важнейшем атрибуте фазовых переходов – диалоге и диалогистике – ключевых инструментах для миропонимания и  важнейших новых сферах гуманитарного знания–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иало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иалогисти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алог - способ, адекватный коммуникативному взаимодействию  народов, цивилизаций, мировой системы, мирового сообщества и их институтов с Человек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алогистика дает научное обоснование и закрепление новой когнитивной модели справедливого устроения миропоряд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зовые постановки проблемы  диалога и диалогистики,  их операционная методологическая нагрузка,  вычленение основных блоков и их содержательное наполнение и т.д. широко представлены автором в книге «Диалог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d8ff"/>
                </a:solidFill>
                <a:latin typeface="Verdana"/>
              </a:rPr>
              <a:t>КОЧЕТОВ Эрнест Георгиевич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идент Общественной академии наук геоэкономики и глобалистики, доктор экономических наук, академик РАЕ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0004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Кочетов Э.Г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b1d8ff"/>
                </a:solidFill>
                <a:latin typeface="Verdana"/>
              </a:rPr>
              <a:t>Диалог: Диалогистика как наука о судьбах человека и мира в контексте глобальных перемен</a:t>
            </a:r>
            <a:r>
              <a:rPr b="0" lang="ru-RU" sz="2800" spc="-1" strike="noStrike">
                <a:solidFill>
                  <a:srgbClr val="b1d8ff"/>
                </a:solidFill>
                <a:latin typeface="Verdana"/>
              </a:rPr>
              <a:t>: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учная монография / Обществ. ак. наук геоэкономики и глобалистики.  – Москва:  Экономика, 2011. - 733 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nest Kochetov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i="1" lang="en-US" sz="2800" spc="-1" strike="noStrike">
                <a:solidFill>
                  <a:srgbClr val="b1d8ff"/>
                </a:solidFill>
                <a:latin typeface="Verdana"/>
              </a:rPr>
              <a:t>DIALOGUES: Dialogistics as a science of the destiny of the mankind and the world in the context of the global chang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Scientific monograph / Ernest Kochetov. — Moscow: Ekonomika, 2011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42920"/>
            <a:ext cx="9144000" cy="60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зентация книги прошла на XXIV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Московской международной книжной выставке-ярмарке 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(10 сентября 2011 г.) и на IX сессии Мирового общественного форума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«Диалог цивилизаций»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о. Родос, Греция, 6-10 октября 2011 г.)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нига представлена в Интернете для свободного и бесплатного скачивания пользователями в научных и учебных целях. С  полным текстом книги читатели могут ознакомиться на сайте 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бщественной академии наук геоэкономики и глобалистик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см.: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http://www.geoeconomics-academy.ru/Books/Kochetov/Kochetov_Dialog.pdf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; на Информационно-аналитическом портале Vi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rson.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d8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http://kochetov.viperson.ru/wind.php?ID=641398&amp;soch=1?7793334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42920"/>
            <a:ext cx="9144000" cy="60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Книга адресован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ервопроходцам в сферу новейшего знания об окружающем нас мире, смело поднимающим вопросы высочайшего ранга, представителям научных, деловых и политических и общественных кругов, религиозным конфессиям и структурам, формирующим  ключевые «повестки дня» глобального диалога о судьбе мира, стратегию развития России, ее взаимодействие с  «новым» Мир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блема «субъекта перемен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то возьмет на себя главенствующую роль – роль «мотора» мировых преобразований: «Мировая система», «Мировое сообщество», «Человек»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вет на этот вопрос в ясной и четкой форме дают «Новые люди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вые люди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New People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 — люди со спокойным взглядом на вещи, способные к интеллектуальному их «ощупыванию», а значит, близкие к их сущностям; люди, вооруженные новым, объемно-сетевым методом познания мира, созревшие и подготовленные для того, чтобы сорганизовать и обустроить наш мир — мироздание нового Ренессанса, тем самым обеспечить бытие, достойное своей силы, красоты, жизнелюбия и интеллек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«Новые люди» провозглашают высшей ценностью «Человека», его жизнь и свободу. Именно «Человек» выступает субъектом истории, активным субъектом больших дел и великих поступков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ыход на мировую арену «Новых людей» которые уже формирует эскиз нового Мироздания, они освещают дорогу к нему и предъявляют миру этот эскиз с высоких интеллектуальных площадок. Среди них – высокие родосские парадигмальные установки, озвученные на Мировых общественных форумах «Диалог цивилизаций», постановки на Бакинском Международном гуманитарном форуме и др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Итак, завершая презентацию, подчеркнем: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Проблема миропонимания – мир переживает ряд моментов: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Современный мир входит в новый этап своего развития, при этом ярко демонстрируя дуальность фазового перехода.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i="1" lang="ru-RU" sz="2700" spc="-1" strike="noStrike">
                <a:solidFill>
                  <a:srgbClr val="ffffff"/>
                </a:solidFill>
                <a:latin typeface="Verdana"/>
              </a:rPr>
              <a:t>Глобализация и наука о ней - глобалистика, выполнив свою миссию, передают эстафету новой фазе мирового развития – космологизации   и ее научному обоснованию - гуманитарной космологии. Оформление этих процессов идет через диалог – он дает ключ к миропониманию!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Интеллектуальная мысль выдвинула парадигмальную связку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геоэкономический подход – глобалистика – гуманитарная космология»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, тем самым, осветила в мире реальную  череду фазовых переходов: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геоэкономика → глобализация → космологизация»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а в качестве действенного научного инструментария (рычага) по гармонизации нашего мира  -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цептуализацию глобальной теории диалога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Гуманитарная космология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ысвечивает прорыв в будущее как зарождение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новой модели антропокосмоса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 Мироздания нового Ренессанса. И мы свидетели выхода на  мировую арену «Новых людей» с новыми идеями.  В них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высшей ценностью провозглашается «Человек», его жизнь и свобода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: Человек выступает как активный субъект истории, больших дел и поступков.  «Новые люди» подняли и предъявили человечеству новые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лозунги и эскизы антропокосмоса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, высокие гуманитарные технологии мирового преобразования.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Они уже вступили на дорогу, ведущую к новому Мирозданию – Мирозданию нового Ренессанса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285840"/>
            <a:ext cx="8186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лагодарю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брал критическую массу проблем. Центральная из них – проблема миропонимания. Все пришло в движение. Потеряна логика мирового развития. Опрокидываются традиционные представления о мире. Проснулась жажда нового знания о мире и его трендах, тяга к поиску новых смыслов, к новым мотивациям, стимулам, к новым ценностя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осознания этого потребовалась новая методологическая оптика, новая «высота» мирового обзора – высокая методологическая орбита. Фундаментальная наука откликнулась на это: зародились новейшие отрасли знания и научные категории: геогенезис, глобалистика, гуманитарная космология, диалогистика и др. Они осветили по-новому мировую панораму и новые горизонты развития. С особой силой заявили о себе две проблемы:  1) проблемы «фазовых переходов» и 2) проблема «субъекта перемен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альный момент  – обозначились вступающие в силу мировые фазовые изменения и их логика, а именно: переход от глобализации и глобалистики к космологизации и гуманитарной космологии, а также контур научного - концептуального и методологического -обоснования этого процесса и ключ к его осознанию – диалогисти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обальные фазовые изменения  мира выступают как череда звеньев (парадигмальных сдвигов) подъема (восхождения) интеллектуальной мысли. Мир входит в процесс космологизации как новый этап мирового развития. Обратимся к  блок-схе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смологизация: общая картина миропонимания (процессы,  их научное (концептуальное и методологическое) обоснование и ключ к осознанию (в авторской разработк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2920" y="2857680"/>
          <a:ext cx="8929800" cy="3832200"/>
        </p:xfrm>
        <a:graphic>
          <a:graphicData uri="http://schemas.openxmlformats.org/drawingml/2006/table">
            <a:tbl>
              <a:tblPr/>
              <a:tblGrid>
                <a:gridCol w="1428840"/>
                <a:gridCol w="2286000"/>
                <a:gridCol w="2336760"/>
                <a:gridCol w="2878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ы мир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ним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ц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цесс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фазы, этап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учные парадигмы (инструментар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юч к миропониманию (осознанию мир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Calibri"/>
                        </a:rPr>
                        <a:t>Космологиз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уманитарная космология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иалог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иалогистика как наука о судьбах человека и мира в контексте глобальных перемен*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лобали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ция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лобалистика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еоэкономика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еоэкономический подход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мволом «↑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»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означены «фазовые переходы» в онтологической связке-триаде «геоэкономика → глобализация → космологизация» и в гносеологической связке-триаде «геоэкономический подход  → глобалистика → гуманитарная космология»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ертикальные срезы мировой динамик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горизонты мирового развития и их онтологическая и гносеологическая составляющая 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оризонтальные срезы мировой динамик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имволами *, **, ***, **** обозначены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вторские разработ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оответствующих фаз (этапов) и научной парадигмы (инструментария) для их осознания и постижения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еоэкономика. Освоение мирового экономического пространства: Учебник. — М.: Норма, 2010. — 528 с.; Геоэкономика и конкурентоспособность России: Научно-концептуальные основы геоэкономической политики России»: Научно-аналитический доклад / М.Ю. Байдаков, Н.Ю. Конина, Э.Г. Кочетов, Е.В. Сапир, В.Л. Сельцовский, Н.С. Столярова, Е.Д. Фролова; Под научной ред. Э.Г. Кочетова; Обществ. акад. наук геоэкономики и глобалистики. М.: Книга и бизнес, 2010. - 388 с.;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еоэкономический (глобальный) толковый словарь (Основы высоких геоэкономических технологий современного бизнеса): Сборник стратегических понятий-новелл. – Екатеринбург: ОАО «ИПП Уральский рабочий»,  2006. – 504 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**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Глобалистика: Теория, методология, практика: Учебник для вузов. – М.: Издательство НОРМА (Издательская группа НОРМА–ИНФРА • М), 2002. – 672 с.; Глобалистика как геоэкономика, как реальность, как мироздание: Новый ренессанс – истоки и принципы его построения, фундаментальные опоры, теоретический и методологический каркас. М.: ОАО Издательская группа «ПРОГРЕСС», 2001. - 704 с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*** - Гуманитарная космология (дорога к новому мирозданию новых людей). Научная монография. — М.: Деловая литература, 2006. – 160 с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**** - </a:t>
            </a:r>
            <a:r>
              <a:rPr b="0" i="1" lang="ru-RU" sz="2300" spc="-1" strike="noStrike">
                <a:solidFill>
                  <a:srgbClr val="ffffff"/>
                </a:solidFill>
                <a:latin typeface="Verdana"/>
              </a:rPr>
              <a:t>Диалог:</a:t>
            </a:r>
            <a:r>
              <a:rPr b="1" i="1" lang="ru-RU" sz="2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ffffff"/>
                </a:solidFill>
                <a:latin typeface="Verdana"/>
              </a:rPr>
              <a:t>Диалогистика как наука о судьбах человека и   мира в контексте глобальных перемен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: Научная монография / Обществ. ак. наук геоэкономики и глобалистики. – Москва: Экономика, 2011. - 733 С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3:13:32Z</dcterms:created>
  <dc:creator>Ольга</dc:creator>
  <dc:description/>
  <dc:language>en-US</dc:language>
  <cp:lastModifiedBy>Эрнест Кочтов</cp:lastModifiedBy>
  <dcterms:modified xsi:type="dcterms:W3CDTF">2013-04-27T07:11:21Z</dcterms:modified>
  <cp:revision>139</cp:revision>
  <dc:subject/>
  <dc:title>Слайд 1</dc:title>
</cp:coreProperties>
</file>